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2AAAF-222A-49F0-AAD7-494D59BC1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AEA94-C3D7-4BD1-A908-C6CB5B291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6E75D-366A-4669-AF40-30EECEFDC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7247D-B9DA-4637-BB47-31D7D44BE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48DA33-D65A-4672-AE26-A1B2FB111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AA91A-D97C-4A4D-97FF-240474420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D5A99-6F5E-4603-BB82-246A9590E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E5327-E571-42FC-A252-2B0E5F35D1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EA2DB-AB02-4B73-A7FE-2D8DB092E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44705-5F53-4602-BB34-BEF609F2F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07AD9-4EEA-4A92-AB48-BA67C7D20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F6383-219C-46AC-B530-4FD20ECA0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F45D1-9F03-40D2-A182-72824A462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E6FD4-8D4D-4177-85B3-A01D1C461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8D5D3-C494-4122-9027-86CCD32AC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398A2-E5BD-4F6E-864A-A9649CC08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3E8AB4-08A8-49EB-9FE2-C4C747AA27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3C49-2101-4615-BFB4-F83FB2103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299D0-36E0-4D46-81B4-A152432A1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4A604-54C1-4215-A76C-62644C90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F90E8-D2FF-413E-B513-B24D1C1F1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986C-5B88-47F8-8311-0647FDC82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F26A8-F3D4-4405-B035-8EE12DA7C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3F6B8-2904-4E38-B8DE-AD23047EC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8263-5D9A-4E35-B401-644DDBF520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B2755-5860-4EF0-B108-48BD0ED1AF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didactic.ro/"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log.zaibar.ro/wp-content/gallery/iarna-2010/bailesti-iarna-2010-11.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533160"/>
            <a:ext cx="7772400" cy="143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ffb7"/>
                </a:solidFill>
                <a:latin typeface="Arial Black"/>
              </a:rPr>
              <a:t>Proiect de dezvoltare personala</a:t>
            </a:r>
            <a:endParaRPr b="1" lang="en-US" sz="5400" spc="-1" strike="noStrike">
              <a:solidFill>
                <a:srgbClr val="ffffb7"/>
              </a:solidFill>
              <a:latin typeface="Arial Black"/>
            </a:endParaRPr>
          </a:p>
        </p:txBody>
      </p:sp>
      <p:sp>
        <p:nvSpPr>
          <p:cNvPr id="99" name="PlaceHolder 2"/>
          <p:cNvSpPr>
            <a:spLocks noGrp="1"/>
          </p:cNvSpPr>
          <p:nvPr>
            <p:ph type="subTitle"/>
          </p:nvPr>
        </p:nvSpPr>
        <p:spPr>
          <a:xfrm>
            <a:off x="4343040" y="2895480"/>
            <a:ext cx="4800600" cy="9144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of. Jidovin Monica </a:t>
            </a:r>
            <a:endParaRPr b="0" lang="en-US" sz="3200" spc="-1" strike="noStrike">
              <a:solidFill>
                <a:srgbClr val="ffffff"/>
              </a:solidFill>
              <a:latin typeface="Arial"/>
            </a:endParaRPr>
          </a:p>
        </p:txBody>
      </p:sp>
      <p:pic>
        <p:nvPicPr>
          <p:cNvPr id="100" name="Picture 5" descr="copaci,gospodăresc,natură,uzine"/>
          <p:cNvPicPr/>
          <p:nvPr/>
        </p:nvPicPr>
        <p:blipFill>
          <a:blip r:embed="rId1"/>
          <a:stretch/>
        </p:blipFill>
        <p:spPr>
          <a:xfrm>
            <a:off x="2362320" y="3886200"/>
            <a:ext cx="4267080" cy="25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20" name=""/>
          <p:cNvGraphicFramePr/>
          <p:nvPr/>
        </p:nvGraphicFramePr>
        <p:xfrm>
          <a:off x="609480" y="380880"/>
          <a:ext cx="8229600" cy="6477120"/>
        </p:xfrm>
        <a:graphic>
          <a:graphicData uri="http://schemas.openxmlformats.org/drawingml/2006/table">
            <a:tbl>
              <a:tblPr/>
              <a:tblGrid>
                <a:gridCol w="1646280"/>
                <a:gridCol w="1646280"/>
                <a:gridCol w="1644840"/>
                <a:gridCol w="1645920"/>
                <a:gridCol w="1646280"/>
              </a:tblGrid>
              <a:tr h="6477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rtie 201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luarea si solutii pentru degradarea mediului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ncurs “Stiu despre poluare acum”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siune de referate si comunicari </a:t>
                      </a:r>
                      <a:endParaRPr b="0" lang="en-US" sz="1800" spc="-1" strike="noStrike">
                        <a:solidFill>
                          <a:srgbClr val="ffffff"/>
                        </a:solidFill>
                        <a:latin typeface="Arial"/>
                      </a:endParaRPr>
                    </a:p>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cologizarea Parcului Balasan din  Bailesti </a:t>
                      </a:r>
                      <a:endParaRPr b="0" lang="en-US" sz="1800" spc="-1" strike="noStrike">
                        <a:solidFill>
                          <a:srgbClr val="ffffff"/>
                        </a:solidFill>
                        <a:latin typeface="Arial"/>
                      </a:endParaRPr>
                    </a:p>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mpartirea de pliante si afise cu efectele poluari asupra organismului si asupra mediului inconjurator .</a:t>
                      </a:r>
                      <a:endParaRPr b="0" lang="en-US" sz="1800" spc="-1" strike="noStrike">
                        <a:solidFill>
                          <a:srgbClr val="ffffff"/>
                        </a:solidFill>
                        <a:latin typeface="Arial"/>
                      </a:endParaRPr>
                    </a:p>
                    <a:p>
                      <a:pPr>
                        <a:lnSpc>
                          <a:spcPct val="100000"/>
                        </a:lnSpc>
                        <a:spcBef>
                          <a:spcPts val="451"/>
                        </a:spcBef>
                        <a:buClr>
                          <a:srgbClr val="99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aluarea finala : portofoliu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plom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pci ecologice, s.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nuale , reviste , interne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ci menajeri , pliante , afis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mativa prin verficarea orala si prin aprecierea modului de indeplinire a sarcinilor de lucru practice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ortofoliu</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pic>
        <p:nvPicPr>
          <p:cNvPr id="121" name="Picture 27" descr="comutatoare,conservare,conservarea energiei,conservarea mediului,ecologie,faţă veselă,faţă zâmbitoare,feţe,feţe vesele,feţe zâmbitoare,feţişoară veselă,feţişoare vesele,întrerupătoare,medii,probleme de mediu,simboluri,verzi,zâmbire"/>
          <p:cNvPicPr/>
          <p:nvPr/>
        </p:nvPicPr>
        <p:blipFill>
          <a:blip r:embed="rId1"/>
          <a:stretch/>
        </p:blipFill>
        <p:spPr>
          <a:xfrm>
            <a:off x="609480" y="3505320"/>
            <a:ext cx="3095640" cy="309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gn="ctr">
              <a:lnSpc>
                <a:spcPct val="10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sta rezultatelor anticipate</a:t>
            </a:r>
            <a:endParaRPr b="0" lang="en-US" sz="24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În urma derulării proiectului s-a  constatat următoarele aspecte pozitive: </a:t>
            </a:r>
            <a:endParaRPr b="0" lang="en-US" sz="1800" spc="-1" strike="noStrike">
              <a:solidFill>
                <a:srgbClr val="ffffff"/>
              </a:solidFill>
              <a:latin typeface="Arial"/>
            </a:endParaRPr>
          </a:p>
          <a:p>
            <a:pPr marL="343080" indent="-3430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activităţile realizate au determinat manifestarea atitudinii de înţelegere a problemelor mediului înconjurător . toţi elevii din grup dar şi alţi elevi ai şcolii care ulterior s-au ataşat grupului au dovedit interes şi curiozitate pentru cunoaşterea aspectelor negative ale poluării mediului şi înlăturarea lor;</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6"/>
          <p:cNvSpPr/>
          <p:nvPr/>
        </p:nvSpPr>
        <p:spPr>
          <a:xfrm>
            <a:off x="304920" y="2895480"/>
            <a:ext cx="18457920" cy="2928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r>
              <a:rPr b="0" lang="pt-BR" sz="1800" spc="-1" strike="noStrike">
                <a:solidFill>
                  <a:srgbClr val="ffffff"/>
                </a:solidFill>
                <a:latin typeface="Times New Roman"/>
              </a:rPr>
              <a:t>rezultatele s-au concretizat în dezvoltarea   colaborării, a lucrului în echipă</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a dezbaterii, a spiritului de investigaţie , a capacităţii de argumentare a combateri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poluării mediului înconjurăt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        </a:t>
            </a:r>
            <a:r>
              <a:rPr b="0" lang="pt-BR" sz="1800" spc="-1" strike="noStrike">
                <a:solidFill>
                  <a:srgbClr val="ffffff"/>
                </a:solidFill>
                <a:latin typeface="Times New Roman"/>
              </a:rPr>
              <a:t>s-a constatat</a:t>
            </a:r>
            <a:r>
              <a:rPr b="0" lang="pt-BR" sz="2000" spc="-1" strike="noStrike">
                <a:solidFill>
                  <a:srgbClr val="ffffff"/>
                </a:solidFill>
                <a:latin typeface="Arial"/>
              </a:rPr>
              <a:t> </a:t>
            </a:r>
            <a:r>
              <a:rPr b="0" lang="pt-BR" sz="1800" spc="-1" strike="noStrike">
                <a:solidFill>
                  <a:srgbClr val="ffffff"/>
                </a:solidFill>
                <a:latin typeface="Times New Roman"/>
              </a:rPr>
              <a:t>crearea unui climat bazat pe încredere, pe participare,</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precum şi dezvoltarea abilităţilor de investigaţie a problemelor mediului .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Evaluarea activităţilor a vizat două componente, evaluarea elevilor implicaţi</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în desfăşurarea proiectului şi elaborarea unui raport privind combaterea poluării mediului</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şi evaluarea proiectului a efectelor pe care le-a avut acesta asupra comunităţii a atitudinii</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faţă de natură</a:t>
            </a:r>
            <a:r>
              <a:rPr b="0" lang="pt-BR" sz="2000" spc="-1" strike="noStrike">
                <a:solidFill>
                  <a:srgbClr val="ffffff"/>
                </a:solidFill>
                <a:latin typeface="Arial"/>
              </a:rPr>
              <a:t> .</a:t>
            </a:r>
            <a:endParaRPr b="0" lang="en-US" sz="2000" spc="-1" strike="noStrike">
              <a:solidFill>
                <a:srgbClr val="ffffff"/>
              </a:solidFill>
              <a:latin typeface="Arial"/>
            </a:endParaRPr>
          </a:p>
        </p:txBody>
      </p:sp>
      <p:pic>
        <p:nvPicPr>
          <p:cNvPr id="124" name="Picture 8" descr="becuri electrice,conservarea mediului,electricitate,energie alternativă,iStockphoto,pământ,probleme de mediu,responsabilități"/>
          <p:cNvPicPr/>
          <p:nvPr/>
        </p:nvPicPr>
        <p:blipFill>
          <a:blip r:embed="rId1"/>
          <a:stretch/>
        </p:blipFill>
        <p:spPr>
          <a:xfrm>
            <a:off x="0" y="0"/>
            <a:ext cx="243828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ncluzii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oiectul are un caracter transdisciplinar deoarece prin derularea acestuia se ating </a:t>
            </a:r>
            <a:r>
              <a:rPr b="1" lang="it-IT" sz="3200" spc="-1" strike="noStrike">
                <a:solidFill>
                  <a:srgbClr val="ffffff"/>
                </a:solidFill>
                <a:latin typeface="Arial"/>
              </a:rPr>
              <a:t>competente specifice</a:t>
            </a:r>
            <a:r>
              <a:rPr b="0" lang="it-IT" sz="3200" spc="-1" strike="noStrike">
                <a:solidFill>
                  <a:srgbClr val="ffffff"/>
                </a:solidFill>
                <a:latin typeface="Arial"/>
              </a:rPr>
              <a:t> apartinand  mai multor discipline:matematica , chimie, fizica , biologie si educatie tehnologica.</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26" name="Picture 4" descr="conservare,conservarea mediului,coşuri de reciclare,doze,ecologie,faţă veselă,faţă zâmbitoare,feţe,feţe vesele,feţe zâmbitoare,feţişoară veselă,feţişoare vesele,medii,probleme de mediu,reciclare,săgeţi,simboluri,simboluri de reciclare,sticle,verzi,zâmbire"/>
          <p:cNvPicPr/>
          <p:nvPr/>
        </p:nvPicPr>
        <p:blipFill>
          <a:blip r:embed="rId1"/>
          <a:stretch/>
        </p:blipFill>
        <p:spPr>
          <a:xfrm>
            <a:off x="2438280" y="4800600"/>
            <a:ext cx="3657600" cy="2057400"/>
          </a:xfrm>
          <a:prstGeom prst="rect">
            <a:avLst/>
          </a:prstGeom>
          <a:ln w="0">
            <a:noFill/>
          </a:ln>
        </p:spPr>
      </p:pic>
      <p:pic>
        <p:nvPicPr>
          <p:cNvPr id="127" name="Picture 6" descr="conservare,conservarea mediului,ecologie,elemente Web,energii alternative,învârtire,medii,mori de vânt,pictograme,probleme de mediu,reciclare,rotire,simboluri,simboluri de reciclare,turbine,turbine eoliene,vânturi,verzi"/>
          <p:cNvPicPr/>
          <p:nvPr/>
        </p:nvPicPr>
        <p:blipFill>
          <a:blip r:embed="rId2"/>
          <a:stretch/>
        </p:blipFill>
        <p:spPr>
          <a:xfrm>
            <a:off x="6172200" y="4191120"/>
            <a:ext cx="2714760" cy="2485800"/>
          </a:xfrm>
          <a:prstGeom prst="rect">
            <a:avLst/>
          </a:prstGeom>
          <a:ln w="0">
            <a:noFill/>
          </a:ln>
        </p:spPr>
      </p:pic>
      <p:pic>
        <p:nvPicPr>
          <p:cNvPr id="128" name="Picture 8" descr="conservare,conservarea mediului,copaci,ecologie,elemente Web,medii,natură,pictograme,plante,probleme de mediu,simboluri,verzi"/>
          <p:cNvPicPr/>
          <p:nvPr/>
        </p:nvPicPr>
        <p:blipFill>
          <a:blip r:embed="rId3"/>
          <a:stretch/>
        </p:blipFill>
        <p:spPr>
          <a:xfrm>
            <a:off x="0" y="4419720"/>
            <a:ext cx="236232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343080" algn="ctr">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BIBLIOGRAFIE</a:t>
            </a:r>
            <a:r>
              <a:rPr b="0" lang="fr-FR" sz="1600" spc="-1" strike="noStrike">
                <a:solidFill>
                  <a:srgbClr val="ffffff"/>
                </a:solidFill>
                <a:latin typeface="Times New Roman"/>
              </a:rPr>
              <a:t> :</a:t>
            </a:r>
            <a:endParaRPr b="0" lang="en-US" sz="1600" spc="-1" strike="noStrike">
              <a:solidFill>
                <a:srgbClr val="ffffff"/>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1.G. Lichiardopol «Ghidul profesorului de Ed. </a:t>
            </a:r>
            <a:r>
              <a:rPr b="0" lang="fr-FR" sz="1800" spc="-1" strike="noStrike">
                <a:solidFill>
                  <a:srgbClr val="ffffff"/>
                </a:solidFill>
                <a:latin typeface="Times New Roman"/>
              </a:rPr>
              <a:t>Tehnologică » ; Ed. Corint, Bucureşti, 2001</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C. Iarinca « Manualul de Ed. </a:t>
            </a:r>
            <a:r>
              <a:rPr b="0" lang="it-IT" sz="1800" spc="-1" strike="noStrike">
                <a:solidFill>
                  <a:srgbClr val="ffffff"/>
                </a:solidFill>
                <a:latin typeface="Times New Roman"/>
              </a:rPr>
              <a:t>Tehnologică, clasa a-VII-a » ; Ed. </a:t>
            </a:r>
            <a:r>
              <a:rPr b="0" lang="en-US" sz="1800" spc="-1" strike="noStrike">
                <a:solidFill>
                  <a:srgbClr val="ffffff"/>
                </a:solidFill>
                <a:latin typeface="Times New Roman"/>
              </a:rPr>
              <a:t>Corint, Bucureşti, 2001</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3.G. Lichiardopol « Manualul de Ed. </a:t>
            </a:r>
            <a:r>
              <a:rPr b="0" lang="it-IT" sz="1800" spc="-1" strike="noStrike">
                <a:solidFill>
                  <a:srgbClr val="ffffff"/>
                </a:solidFill>
                <a:latin typeface="Times New Roman"/>
              </a:rPr>
              <a:t>Tehnologică, clasa a-VII-a » ; Ed. </a:t>
            </a:r>
            <a:r>
              <a:rPr b="0" lang="en-US" sz="1800" spc="-1" strike="noStrike">
                <a:solidFill>
                  <a:srgbClr val="ffffff"/>
                </a:solidFill>
                <a:latin typeface="Times New Roman"/>
              </a:rPr>
              <a:t>Corint, Bucureşti, 2001</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4.M. Manelici « Manualul de Ed. </a:t>
            </a:r>
            <a:r>
              <a:rPr b="0" lang="it-IT" sz="1800" spc="-1" strike="noStrike">
                <a:solidFill>
                  <a:srgbClr val="ffffff"/>
                </a:solidFill>
                <a:latin typeface="Times New Roman"/>
              </a:rPr>
              <a:t>Tehnologică, clasa a-VII-a » ; Ed. </a:t>
            </a:r>
            <a:r>
              <a:rPr b="0" lang="en-US" sz="1800" spc="-1" strike="noStrike">
                <a:solidFill>
                  <a:srgbClr val="ffffff"/>
                </a:solidFill>
                <a:latin typeface="Times New Roman"/>
              </a:rPr>
              <a:t>Sigma, Bucureşti, 2001</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5.G. Lichiardopol « Dicţionarul termenilor tehnici” ; Ed. </a:t>
            </a:r>
            <a:r>
              <a:rPr b="0" lang="en-US" sz="1800" spc="-1" strike="noStrike">
                <a:solidFill>
                  <a:srgbClr val="ffffff"/>
                </a:solidFill>
                <a:latin typeface="Times New Roman"/>
              </a:rPr>
              <a:t>Corin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a:t>
            </a:r>
            <a:r>
              <a:rPr b="0" lang="ro-RO" sz="1800" spc="-1" strike="noStrike">
                <a:solidFill>
                  <a:srgbClr val="ffffff"/>
                </a:solidFill>
                <a:latin typeface="Times New Roman"/>
              </a:rPr>
              <a:t>Manual de biologie, clasa a VII-a, editura Corin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a:t>
            </a:r>
            <a:r>
              <a:rPr b="0" lang="ro-RO" sz="1800" spc="-1" strike="noStrike">
                <a:solidFill>
                  <a:srgbClr val="ffffff"/>
                </a:solidFill>
                <a:latin typeface="Times New Roman"/>
              </a:rPr>
              <a:t>Manual de fizica, clasa a VIII-a, editura Corin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a:t>
            </a:r>
            <a:r>
              <a:rPr b="0" lang="ro-RO" sz="1800" spc="-1" strike="noStrike">
                <a:solidFill>
                  <a:srgbClr val="ffffff"/>
                </a:solidFill>
                <a:latin typeface="Times New Roman"/>
              </a:rPr>
              <a:t>Revista “Farmacia ta”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9.Emilia Meirosu, Nicoleta Dragan, Nastasia Tomescu-Chimia mediului si a calitatii vietii-Editura Crepuscu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10.A. HEDEŞ, I. ŞORA, D. NICOARĂ –Poluarea electromagnetică generată de echipamente cu electronică de putere în instalaţii electric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1.Manescu</a:t>
            </a:r>
            <a:r>
              <a:rPr b="1" lang="en-US" sz="1800" spc="-1" strike="noStrike">
                <a:solidFill>
                  <a:srgbClr val="ffffff"/>
                </a:solidFill>
                <a:latin typeface="Times New Roman"/>
              </a:rPr>
              <a:t> S</a:t>
            </a:r>
            <a:r>
              <a:rPr b="0" lang="en-US" sz="1800" spc="-1" strike="noStrike">
                <a:solidFill>
                  <a:srgbClr val="ffffff"/>
                </a:solidFill>
                <a:latin typeface="Times New Roman"/>
              </a:rPr>
              <a:t>-Poluarea mediului si sanatatea, editura Stiintifica si Enciclopedica, Bucuresti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12.Rojanscki V. s. a., Protectia si ingineria mediului, Ed.Economica , Bucuresti, 199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Times New Roman"/>
              </a:rPr>
              <a:t>.Situri internet:</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www.hawastsoc.org/pollution.html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cc00"/>
                </a:solidFill>
                <a:latin typeface="Times New Roman"/>
              </a:rPr>
              <a:t>Internet:adresa:</a:t>
            </a:r>
            <a:r>
              <a:rPr b="1" lang="ro-RO" sz="1800" spc="-1" strike="noStrike">
                <a:solidFill>
                  <a:srgbClr val="ffffff"/>
                </a:solidFill>
                <a:latin typeface="Times New Roman"/>
              </a:rPr>
              <a:t> </a:t>
            </a:r>
            <a:r>
              <a:rPr b="0" lang="ro-RO" sz="1800" spc="-1" strike="noStrike" u="sng">
                <a:solidFill>
                  <a:srgbClr val="99ff66"/>
                </a:solidFill>
                <a:uFillTx/>
                <a:latin typeface="Times New Roman"/>
                <a:hlinkClick r:id="rId1"/>
              </a:rPr>
              <a:t>www.didactic.ro</a:t>
            </a:r>
            <a:r>
              <a:rPr b="1" lang="fr-FR" sz="1800" spc="-1" strike="noStrike">
                <a:solidFill>
                  <a:srgbClr val="ffffff"/>
                </a:solidFill>
                <a:latin typeface="Times New Roman"/>
              </a:rPr>
              <a: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04920" y="914040"/>
            <a:ext cx="822960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Va Multumesc !</a:t>
            </a:r>
            <a:endParaRPr b="0" lang="en-US" sz="3200" spc="-1" strike="noStrike">
              <a:solidFill>
                <a:srgbClr val="ffffff"/>
              </a:solidFill>
              <a:latin typeface="Arial"/>
            </a:endParaRPr>
          </a:p>
        </p:txBody>
      </p:sp>
      <p:pic>
        <p:nvPicPr>
          <p:cNvPr id="131" name="Picture 7" descr="ciclul vieţii,conservare,conservarea mediului,ecologie,elemente Web,lumi,medii,pământ,pictograme,planete,probleme de mediu,reciclare,săgeţi,simboluri,simboluri de reciclare,verzi"/>
          <p:cNvPicPr/>
          <p:nvPr/>
        </p:nvPicPr>
        <p:blipFill>
          <a:blip r:embed="rId1"/>
          <a:stretch/>
        </p:blipFill>
        <p:spPr>
          <a:xfrm>
            <a:off x="304920" y="3276720"/>
            <a:ext cx="3095640" cy="3324240"/>
          </a:xfrm>
          <a:prstGeom prst="rect">
            <a:avLst/>
          </a:prstGeom>
          <a:ln w="0">
            <a:noFill/>
          </a:ln>
        </p:spPr>
      </p:pic>
      <p:pic>
        <p:nvPicPr>
          <p:cNvPr id="132" name="Picture 11" descr="fotografii,fundaluri,ierburi,natură,peluze,plante,verdeţuri"/>
          <p:cNvPicPr/>
          <p:nvPr/>
        </p:nvPicPr>
        <p:blipFill>
          <a:blip r:embed="rId2"/>
          <a:stretch/>
        </p:blipFill>
        <p:spPr>
          <a:xfrm>
            <a:off x="3505320" y="3352680"/>
            <a:ext cx="533376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456840"/>
            <a:ext cx="8229600" cy="5334120"/>
          </a:xfrm>
          <a:prstGeom prst="rect">
            <a:avLst/>
          </a:prstGeom>
          <a:noFill/>
          <a:ln w="0">
            <a:noFill/>
          </a:ln>
        </p:spPr>
        <p:txBody>
          <a:bodyPr anchor="t">
            <a:normAutofit fontScale="99000"/>
          </a:bodyPr>
          <a:p>
            <a:pPr lvl="4" marL="2036520" indent="-226080">
              <a:spcBef>
                <a:spcPts val="451"/>
              </a:spcBef>
              <a:buClr>
                <a:srgbClr val="99ff66"/>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erea proiectului :</a:t>
            </a:r>
            <a:endParaRPr b="0" lang="en-US" sz="1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Trăim într-o perioadă marcată de proiectivitate pe termen scurt , mediu şi chiar lung. Marcăm timpul prin liste , scheme şi acţiuni de făcut . Suntem obligaţi să ne planificăm activităţile pentru a deveni competitivi şi eficienţi .</a:t>
            </a:r>
            <a:endParaRPr b="0" lang="en-US" sz="1800" spc="-1" strike="noStrike">
              <a:solidFill>
                <a:srgbClr val="ffffff"/>
              </a:solidFill>
              <a:latin typeface="Arial"/>
            </a:endParaRPr>
          </a:p>
          <a:p>
            <a:pPr marL="339480" indent="-3394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Cum este firesc , nici procesul educativ nu are cum să scape acestei tendinţe . În ultimul timp, instituţia şcolară trebuie să facă faţă noilor tendinţe proiective . Ea nu mai funcţionează ca o instituţie autarhică , izolată , ce performează  de una singură , într-un fel de ,, turn de fildeş” , şcoala devine o instanţă pe care comunitatea şi-o integrează în proiectele specifice, cu coloratură socială , culturală , productivă .</a:t>
            </a:r>
            <a:endParaRPr b="0" lang="en-US" sz="1800" spc="-1" strike="noStrike">
              <a:solidFill>
                <a:srgbClr val="ffffff"/>
              </a:solidFill>
              <a:latin typeface="Arial"/>
            </a:endParaRPr>
          </a:p>
          <a:p>
            <a:pPr marL="339480" indent="-3394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Prin structură, obiective şi conţinut, educaţia trebuie să răspundă necontenit unor exigenţe ale evoluţiei realităţii naţionale şi internaţionale </a:t>
            </a:r>
            <a:r>
              <a:rPr b="0" lang="en-US" sz="1800" spc="-1" strike="noStrike">
                <a:solidFill>
                  <a:srgbClr val="ffffff"/>
                </a:solidFill>
                <a:latin typeface="Times New Roman"/>
              </a:rPr>
              <a:t>, </a:t>
            </a:r>
            <a:r>
              <a:rPr b="0" lang="ro-RO" sz="1800" spc="-1" strike="noStrike">
                <a:solidFill>
                  <a:srgbClr val="ffffff"/>
                </a:solidFill>
                <a:latin typeface="Times New Roman"/>
              </a:rPr>
              <a:t>educaţia pentru mediu este una dinte noile educaţii ce răspunde necesităţilor</a:t>
            </a:r>
            <a:r>
              <a:rPr b="0" lang="en-US" sz="1800" spc="-1" strike="noStrike">
                <a:solidFill>
                  <a:srgbClr val="ffffff"/>
                </a:solidFill>
                <a:latin typeface="Times New Roman"/>
              </a:rPr>
              <a:t>.</a:t>
            </a:r>
            <a:r>
              <a:rPr b="0" lang="ro-RO" sz="1800" spc="-1" strike="noStrike">
                <a:solidFill>
                  <a:srgbClr val="ffffff"/>
                </a:solidFill>
                <a:latin typeface="Times New Roman"/>
              </a:rPr>
              <a:t> </a:t>
            </a:r>
            <a:endParaRPr b="0" lang="en-US" sz="1800" spc="-1" strike="noStrike">
              <a:solidFill>
                <a:srgbClr val="ffffff"/>
              </a:solidFill>
              <a:latin typeface="Arial"/>
            </a:endParaRPr>
          </a:p>
          <a:p>
            <a:pPr marL="339480" indent="-339480">
              <a:lnSpc>
                <a:spcPct val="10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Obiectivele educaţiei pentru mediu în toată lumea sunt asemănătoare : îmbunătăţirea şi menţinerea calităţii mediului . Pe de altă parte , educaţia de mediu înseamnă informarea şi sporirea cunoştinţelor elevilor despre mediul înconjurător, elevii conştientizând ce urmările urmări poate avea degradarea mediului şi rolul pe care îl pot juca ei în prevenirea şi înlăturarea problemelor de mediu acum şi în viitor </a:t>
            </a:r>
            <a:r>
              <a:rPr b="0" lang="en-US" sz="1800" spc="-1" strike="noStrike">
                <a:solidFill>
                  <a:srgbClr val="ffffff"/>
                </a:solidFill>
                <a:latin typeface="Times New Roman"/>
              </a:rPr>
              <a:t>.</a:t>
            </a:r>
            <a:endParaRPr b="0" lang="en-US" sz="1800" spc="-1" strike="noStrike">
              <a:solidFill>
                <a:srgbClr val="ffffff"/>
              </a:solidFill>
              <a:latin typeface="Arial"/>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 name="Picture 7" descr="bule,bule cu idei,conservare,conservarea mediului,ecologie,emoţii,faţă veselă,faţă zâmbitoare,feţe,feţe vesele,feţe zâmbitoare,feţişoară veselă,feţişoare vesele,gândire,gânduri,idei,inspiraţii,medii,probleme de mediu,reciclare,săgeţi,simboluri,simboluri de reciclare,verzi,zâmbete,zâmbire"/>
          <p:cNvPicPr/>
          <p:nvPr/>
        </p:nvPicPr>
        <p:blipFill>
          <a:blip r:embed="rId1"/>
          <a:stretch/>
        </p:blipFill>
        <p:spPr>
          <a:xfrm>
            <a:off x="3809880" y="5791320"/>
            <a:ext cx="1281240" cy="106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b7"/>
                </a:solidFill>
                <a:latin typeface="Times New Roman"/>
              </a:rPr>
              <a:t>Domeniul:matematica</a:t>
            </a:r>
            <a:r>
              <a:rPr b="1" lang="it-IT" sz="2800" spc="-1" strike="noStrike">
                <a:solidFill>
                  <a:srgbClr val="ffffb7"/>
                </a:solidFill>
                <a:latin typeface="Times New Roman"/>
              </a:rPr>
              <a:t>- chimie-fizica –biologie-educatie tehnologica</a:t>
            </a:r>
            <a:br>
              <a:rPr sz="2800"/>
            </a:br>
            <a:r>
              <a:rPr b="0" lang="it-IT" sz="2800" spc="-1" strike="noStrike">
                <a:solidFill>
                  <a:srgbClr val="ffffb7"/>
                </a:solidFill>
                <a:latin typeface="Times New Roman"/>
              </a:rPr>
              <a:t>Titlul temei</a:t>
            </a:r>
            <a:r>
              <a:rPr b="1" lang="it-IT" sz="2800" spc="-1" strike="noStrike">
                <a:solidFill>
                  <a:srgbClr val="ffffb7"/>
                </a:solidFill>
                <a:latin typeface="Times New Roman"/>
              </a:rPr>
              <a:t>: Poluare si solutii de protejare a mediului</a:t>
            </a:r>
            <a:endParaRPr b="1" lang="en-US" sz="2800" spc="-1" strike="noStrike">
              <a:solidFill>
                <a:srgbClr val="ffffb7"/>
              </a:solidFill>
              <a:latin typeface="Arial Black"/>
            </a:endParaRPr>
          </a:p>
        </p:txBody>
      </p:sp>
      <p:sp>
        <p:nvSpPr>
          <p:cNvPr id="104" name="PlaceHolder 2"/>
          <p:cNvSpPr>
            <a:spLocks noGrp="1"/>
          </p:cNvSpPr>
          <p:nvPr>
            <p:ph/>
          </p:nvPr>
        </p:nvSpPr>
        <p:spPr>
          <a:xfrm>
            <a:off x="0" y="2209320"/>
            <a:ext cx="8229600" cy="391644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Obiectivele principale</a:t>
            </a:r>
            <a:r>
              <a:rPr b="0" lang="it-IT" sz="2800" spc="-1" strike="noStrike">
                <a:solidFill>
                  <a:srgbClr val="ffffff"/>
                </a:solidFill>
                <a:latin typeface="Times New Roman"/>
              </a:rPr>
              <a:t>  urmarite in cadrul acestui proiect pentru elev sun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sa isi formeze de cunoasteri si deprinderi de investigare , de dezvoltare a spiritului de observatie a imagini si gandiri;</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sa  propuna soluţii  de protejare a mediului de efectele poluante produse de mijloacele de transport;</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sa valorifice intr-un mesaj propriu termenii si simbolurile invatate.</a:t>
            </a:r>
            <a:endParaRPr b="0" lang="en-US" sz="2800" spc="-1" strike="noStrike">
              <a:solidFill>
                <a:srgbClr val="ffffff"/>
              </a:solidFill>
              <a:latin typeface="Arial"/>
            </a:endParaRPr>
          </a:p>
        </p:txBody>
      </p:sp>
      <p:pic>
        <p:nvPicPr>
          <p:cNvPr id="105" name="Picture 5" descr="copaci,creşe,gospodăresc,industrie,lopeţi,peisagistică,unelte,ustensile,uzine"/>
          <p:cNvPicPr/>
          <p:nvPr/>
        </p:nvPicPr>
        <p:blipFill>
          <a:blip r:embed="rId1"/>
          <a:stretch/>
        </p:blipFill>
        <p:spPr>
          <a:xfrm>
            <a:off x="7162920" y="0"/>
            <a:ext cx="198108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otivarea: </a:t>
            </a:r>
            <a:endParaRPr b="1" lang="en-US" sz="4400" spc="-1" strike="noStrike">
              <a:solidFill>
                <a:srgbClr val="ffffb7"/>
              </a:solidFill>
              <a:latin typeface="Arial Black"/>
            </a:endParaRPr>
          </a:p>
        </p:txBody>
      </p:sp>
      <p:sp>
        <p:nvSpPr>
          <p:cNvPr id="107"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Am ales sa realizez acest proiect intitulat’’ Poluarea si solutii de protejare a mediului si sa pregatesc elevii de la Scoala cu clasele I-VIII Bailesti Nr.1 din orasul Bailesti pentru combaterea poluarii mediului.</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Times New Roman"/>
              </a:rPr>
              <a:t>Deşi localitatea Bailesti  se află într-o frumoasă zonă de campie  unde fenomenul poluare nu şi-a pus încă amprenta pe frumuseţile locului am văzut necesară derularea unui astfel de proiect în scopul conştientizării precoce de către comunitate , elevi în special a efectelor negative determinate de poluarea mediului , a identificării factorilor poluanţi din zonă şi pe cât posibil înlăturarea lor sau diminuarea efectelor precum şi  conştientizarea importanţei lor , apelând la activităţile educaţionale extraşcolare .  </a:t>
            </a:r>
            <a:endParaRPr b="0" lang="en-US" sz="2400" spc="-1" strike="noStrike">
              <a:solidFill>
                <a:srgbClr val="ffffff"/>
              </a:solidFill>
              <a:latin typeface="Arial"/>
            </a:endParaRPr>
          </a:p>
        </p:txBody>
      </p:sp>
      <p:pic>
        <p:nvPicPr>
          <p:cNvPr id="108" name="Picture 4" descr="Bailesti iarna - Parcul Balasan">
            <a:hlinkClick r:id="rId1"/>
          </p:cNvPr>
          <p:cNvPicPr/>
          <p:nvPr/>
        </p:nvPicPr>
        <p:blipFill>
          <a:blip r:embed="rId2"/>
          <a:stretch/>
        </p:blipFill>
        <p:spPr>
          <a:xfrm>
            <a:off x="2819520" y="5638680"/>
            <a:ext cx="3352680" cy="121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Times New Roman"/>
              </a:rPr>
              <a:t>Valori si atitudini</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10"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ect pentru adevăr şi rigurozitat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Încredere în adevărurile ştiinţifice şi aprecierea critică a limitelor acestora</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eres şi curiozitate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iţiativă personal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pirit critic şi autocritic</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Toleranţă faţă de opiniile celorlalţ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cceptarea „jocului de rol”</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 Deschidere şi dispoziţie de a asculta părerile celorlalţ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Dorinţă de informare şi de afirmar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eres şi respect pentru ceilalţi, respectiv pentru opiniile lor</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Respect faţă de argumentarea ştiinţific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eres pentru explorarea diferitelor modalităţi de comunicare,  inclusiv cele create prin aplicarea TIC</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ija faţă de propria persoană, faţă de ceilalţi şi faţă de mediu</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precierea critică a raportului dintre beneficii şi efecte indezirabile în aplicarea tehnologiilor</a:t>
            </a:r>
            <a:endParaRPr b="0" lang="en-US" sz="1800" spc="-1" strike="noStrike">
              <a:solidFill>
                <a:srgbClr val="ffffff"/>
              </a:solidFill>
              <a:latin typeface="Arial"/>
            </a:endParaRPr>
          </a:p>
        </p:txBody>
      </p:sp>
      <p:pic>
        <p:nvPicPr>
          <p:cNvPr id="111" name="Picture 5" descr="băieţi,conservare,conservarea mediului,conştientizare,coşuri de reciclare,ecologie,hârtii,Hispanici,Latini,lăzi,masculini,medii,oameni,probleme de mediu,reciclare,săgeţi,simboluri,simboluri de reciclare,verzi"/>
          <p:cNvPicPr/>
          <p:nvPr/>
        </p:nvPicPr>
        <p:blipFill>
          <a:blip r:embed="rId1"/>
          <a:stretch/>
        </p:blipFill>
        <p:spPr>
          <a:xfrm>
            <a:off x="7772400" y="2209680"/>
            <a:ext cx="1371600" cy="266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Locul de desfasurare</a:t>
            </a:r>
            <a:r>
              <a:rPr b="0" lang="it-IT" sz="2800" spc="-1" strike="noStrike">
                <a:solidFill>
                  <a:srgbClr val="ffffff"/>
                </a:solidFill>
                <a:latin typeface="Arial"/>
              </a:rPr>
              <a:t>:sala de clasa si curtea Scolii cu clasele I-VIII Bailesti Nr.1</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Resurse materiale</a:t>
            </a:r>
            <a:r>
              <a:rPr b="0" lang="it-IT" sz="2800" spc="-1" strike="noStrike">
                <a:solidFill>
                  <a:srgbClr val="ffffff"/>
                </a:solidFill>
                <a:latin typeface="Arial"/>
              </a:rPr>
              <a:t> implicate in proiect :manuale, reviste, pliante;</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Forme de organizare</a:t>
            </a:r>
            <a:r>
              <a:rPr b="0" lang="pt-BR" sz="2800" spc="-1" strike="noStrike">
                <a:solidFill>
                  <a:srgbClr val="ffffff"/>
                </a:solidFill>
                <a:latin typeface="Arial"/>
              </a:rPr>
              <a:t>:pe grupe , individual , frontal</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Arial"/>
              </a:rPr>
              <a:t>Durata proiectului</a:t>
            </a:r>
            <a:r>
              <a:rPr b="0" lang="ro-RO" sz="2800" spc="-1" strike="noStrike">
                <a:solidFill>
                  <a:srgbClr val="ffffff"/>
                </a:solidFill>
                <a:latin typeface="Arial"/>
              </a:rPr>
              <a:t>: 4-5 saptămâni.</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Grupul tinta</a:t>
            </a:r>
            <a:r>
              <a:rPr b="0" lang="pt-BR" sz="2800" spc="-1" strike="noStrike">
                <a:solidFill>
                  <a:srgbClr val="ffffff"/>
                </a:solidFill>
                <a:latin typeface="Arial"/>
              </a:rPr>
              <a:t>: elevii claselor VII-a : 21de elevi</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lasa a VIII-a: 31 de la Scoala cu clasele I-VIII Bailesti Nr.1  </a:t>
            </a:r>
            <a:endParaRPr b="0" lang="en-US" sz="2800" spc="-1" strike="noStrike">
              <a:solidFill>
                <a:srgbClr val="ffffff"/>
              </a:solidFill>
              <a:latin typeface="Arial"/>
            </a:endParaRPr>
          </a:p>
        </p:txBody>
      </p:sp>
      <p:pic>
        <p:nvPicPr>
          <p:cNvPr id="113" name="Picture 5" descr="cămine,case,conservare,conservarea mediului,ecologie,elemente Web,frunze,linie continuă,linii,medii,natură,pictograme,plante,probleme de mediu,simboluri,verzi"/>
          <p:cNvPicPr/>
          <p:nvPr/>
        </p:nvPicPr>
        <p:blipFill>
          <a:blip r:embed="rId1"/>
          <a:stretch/>
        </p:blipFill>
        <p:spPr>
          <a:xfrm>
            <a:off x="380880" y="0"/>
            <a:ext cx="2667240" cy="1720800"/>
          </a:xfrm>
          <a:prstGeom prst="rect">
            <a:avLst/>
          </a:prstGeom>
          <a:ln w="0">
            <a:noFill/>
          </a:ln>
        </p:spPr>
      </p:pic>
      <p:pic>
        <p:nvPicPr>
          <p:cNvPr id="114" name="Picture 7" descr="animale,natură,păsări,raţe"/>
          <p:cNvPicPr/>
          <p:nvPr/>
        </p:nvPicPr>
        <p:blipFill>
          <a:blip r:embed="rId2"/>
          <a:stretch/>
        </p:blipFill>
        <p:spPr>
          <a:xfrm>
            <a:off x="6629400" y="0"/>
            <a:ext cx="251460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Competente operactionale</a:t>
            </a:r>
            <a:r>
              <a:rPr b="0" lang="it-IT" sz="1800" spc="-1" strike="noStrike">
                <a:solidFill>
                  <a:srgbClr val="ffffff"/>
                </a:solidFill>
                <a:latin typeface="Arial"/>
              </a:rPr>
              <a:t> pe care elevii trebuie sa dobandesca in urma acestui proiect :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fizica~</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defineasca si sa descrie poluarea sonora</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enumere metodele de combatere a poluarii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la chimie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defineasca si sa descrie poluarea chimica a apei ,solului , a aerulu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identifice o poluare chimica a mediului inconjurator</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biologi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a defineasca si sa descrie poluarea biologica;</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a indice tipuri de poluanti biologic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educatie tehnologica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identifice solutii de protejare a mediului impotriva poluarii in conditiile transportului       actual</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sa realizeze un referat cu tema: “</a:t>
            </a:r>
            <a:r>
              <a:rPr b="1" i="1" lang="it-IT" sz="1800" spc="-1" strike="noStrike">
                <a:solidFill>
                  <a:srgbClr val="ffffff"/>
                </a:solidFill>
                <a:latin typeface="Arial"/>
              </a:rPr>
              <a:t>Poluarea in oraşul meu in condiţiile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Arial"/>
              </a:rPr>
              <a:t>     </a:t>
            </a:r>
            <a:r>
              <a:rPr b="1" i="1" lang="it-IT" sz="1800" spc="-1" strike="noStrike">
                <a:solidFill>
                  <a:srgbClr val="ffffff"/>
                </a:solidFill>
                <a:latin typeface="Arial"/>
              </a:rPr>
              <a:t>transportului actual”</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sa insuseasca noţiunile referitoare la mijloacele de transport, clasificare,  comunicaţii    si limbaj</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grafic in transporturi, calitatea serviciilor de comunicaţii si transport si influenta acestora asupra individului si societatii</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tematica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sa recunoasca  si sa descrie figuri geometrice plane a unor materiale ecologice realizate;</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   </a:t>
            </a:r>
            <a:r>
              <a:rPr b="0" lang="it-IT" sz="1800" spc="-1" strike="noStrike">
                <a:solidFill>
                  <a:srgbClr val="ffffff"/>
                </a:solidFill>
                <a:latin typeface="Arial"/>
              </a:rPr>
              <a:t>- sa utilizeze instrumentele geometrice . </a:t>
            </a:r>
            <a:endParaRPr b="0" lang="en-US" sz="1800" spc="-1" strike="noStrike">
              <a:solidFill>
                <a:srgbClr val="ffffff"/>
              </a:solidFill>
              <a:latin typeface="Arial"/>
            </a:endParaRPr>
          </a:p>
        </p:txBody>
      </p:sp>
      <p:pic>
        <p:nvPicPr>
          <p:cNvPr id="116" name="Picture 6" descr="botanică,conservare,conservarea mediului,curcubee,ecologie,grădinărit,iStockphoto,lumina soarelui,natură,plante,probleme de mediu,soare"/>
          <p:cNvPicPr/>
          <p:nvPr/>
        </p:nvPicPr>
        <p:blipFill>
          <a:blip r:embed="rId1"/>
          <a:stretch/>
        </p:blipFill>
        <p:spPr>
          <a:xfrm>
            <a:off x="7315200" y="609480"/>
            <a:ext cx="182880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33160"/>
            <a:ext cx="8229600" cy="609588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iectul s-a derulat în cadrul a cinci etape</a:t>
            </a:r>
            <a:r>
              <a:rPr b="0" lang="pt-B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r>
              <a:rPr b="0" lang="pt-BR" sz="2400" spc="-1" strike="noStrike">
                <a:solidFill>
                  <a:srgbClr val="ffffff"/>
                </a:solidFill>
                <a:latin typeface="Times New Roman"/>
              </a:rPr>
              <a:t>Etapa de mediatizare – informarea elevilor , profesorilor,  cu privire la obiectivele proiectului ;</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apa de identificare a grupului ţintă şi formarea grupului ,, Prietenii naturii”</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rPr>
              <a:t>Etapa de pregătire a grupului –  întocmirea unui program de acţiuni , procurarea materialelor de propagandă . </a:t>
            </a:r>
            <a:r>
              <a:rPr b="0" lang="en-US" sz="2400" spc="-1" strike="noStrike">
                <a:solidFill>
                  <a:srgbClr val="ffffff"/>
                </a:solidFill>
                <a:latin typeface="Times New Roman"/>
              </a:rPr>
              <a:t>In această etapă am desfăşurat activităţi de strângere şi reciclare a gunoaielor din diferite locuri public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t în această etapă am organizat acţiuni de plantare de puieţi de arbori în locuri ameninţate de degradarea solului datorită defrişărilor , amenajarea în livada şcolii a unor căsuţe pentru păsărele , toate acţiunile au fost însoţite de mediatizarea cu ajutorul afişelor şi pliantelor a efectelor poluării asupra organismului şi mediului înconjurător .</a:t>
            </a:r>
            <a:endParaRPr b="0" lang="en-US" sz="2400" spc="-1" strike="noStrike">
              <a:solidFill>
                <a:srgbClr val="ffffff"/>
              </a:solidFill>
              <a:latin typeface="Arial"/>
            </a:endParaRPr>
          </a:p>
        </p:txBody>
      </p:sp>
      <p:pic>
        <p:nvPicPr>
          <p:cNvPr id="118" name="Picture 5" descr="afecţiune,conservare,conservarea mediului,ecologie,elemente Web,lumi,mâini,medii,pământ,pictograme,planete,probleme de mediu,protecţii,protejare,simboluri,verzi"/>
          <p:cNvPicPr/>
          <p:nvPr/>
        </p:nvPicPr>
        <p:blipFill>
          <a:blip r:embed="rId1"/>
          <a:stretch/>
        </p:blipFill>
        <p:spPr>
          <a:xfrm>
            <a:off x="6934320" y="5576760"/>
            <a:ext cx="1752480" cy="128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aphicFrame>
        <p:nvGraphicFramePr>
          <p:cNvPr id="119" name=""/>
          <p:cNvGraphicFramePr/>
          <p:nvPr/>
        </p:nvGraphicFramePr>
        <p:xfrm>
          <a:off x="76320" y="0"/>
          <a:ext cx="9067680" cy="6629400"/>
        </p:xfrm>
        <a:graphic>
          <a:graphicData uri="http://schemas.openxmlformats.org/drawingml/2006/table">
            <a:tbl>
              <a:tblPr/>
              <a:tblGrid>
                <a:gridCol w="1231920"/>
                <a:gridCol w="1990440"/>
                <a:gridCol w="1959120"/>
                <a:gridCol w="2236680"/>
                <a:gridCol w="1649520"/>
              </a:tblGrid>
              <a:tr h="70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ema continutului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dalitati de realizar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rategii didacti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valuar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21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ebruarie 2011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Poluarea si solutii pentru degradarea mediului</a:t>
                      </a:r>
                      <a:r>
                        <a:rPr b="0" lang="it-IT"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Discutarea cu elevii despre poluare si solutii pentru degradarea mediului pe baza unor pliante ,imagin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 Fixarea termenilor tehnici si a tipurilor de poluare – completarea Rebusului</a:t>
                      </a:r>
                      <a:r>
                        <a:rPr b="0" lang="it-IT"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Conversatia euristica , observatia , expunerea ,</a:t>
                      </a:r>
                      <a:r>
                        <a:rPr b="0" lang="pt-BR" sz="1800" spc="-1" strike="noStrike">
                          <a:solidFill>
                            <a:srgbClr val="ffffff"/>
                          </a:solidFill>
                          <a:latin typeface="Arial"/>
                        </a:rPr>
                        <a:t> </a:t>
                      </a:r>
                      <a:r>
                        <a:rPr b="0" lang="pt-BR" sz="1800" spc="-1" strike="noStrike">
                          <a:solidFill>
                            <a:srgbClr val="ffffff"/>
                          </a:solidFill>
                          <a:latin typeface="Times New Roman"/>
                        </a:rPr>
                        <a:t>exercitiu</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Frontal , individua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 </a:t>
                      </a:r>
                      <a:r>
                        <a:rPr b="0" lang="pt-BR" sz="1800" spc="-1" strike="noStrike">
                          <a:solidFill>
                            <a:srgbClr val="ffffff"/>
                          </a:solidFill>
                          <a:latin typeface="Times New Roman"/>
                        </a:rPr>
                        <a:t>Planse , imagini , albume , plansa cu Jocul , Rebusul , manual, test de evaluare</a:t>
                      </a:r>
                      <a:r>
                        <a:rPr b="0" lang="en-US" sz="1800" spc="-1" strike="noStrike">
                          <a:solidFill>
                            <a:srgbClr val="ffffff"/>
                          </a:solidFill>
                          <a:latin typeface="Times New Roman"/>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rPr>
                        <a:t>-</a:t>
                      </a:r>
                      <a:r>
                        <a:rPr b="0" lang="pt-BR" sz="1800" spc="-1" strike="noStrike">
                          <a:solidFill>
                            <a:srgbClr val="ffffff"/>
                          </a:solidFill>
                          <a:latin typeface="Times New Roman"/>
                        </a:rPr>
                        <a:t>Formativa : verificare orala , aprecierea modului de indeplinire a sarcinilor de lucru</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Sumativa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imes New Roman"/>
                        </a:rPr>
                        <a:t>test de evaluare referat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1T03:29:24Z</dcterms:created>
  <dc:creator>Monica</dc:creator>
  <dc:description/>
  <dc:language>en-US</dc:language>
  <cp:lastModifiedBy>User</cp:lastModifiedBy>
  <dcterms:modified xsi:type="dcterms:W3CDTF">2012-04-10T10:21:57Z</dcterms:modified>
  <cp:revision>3</cp:revision>
  <dc:subject/>
  <dc:title>Proiect de dezvoltare personala</dc:title>
</cp:coreProperties>
</file>